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D80-CB46-456C-8E6F-435263CB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786-97F1-41F3-9B06-375E6F10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E65-BAB0-467D-B478-CBD8F630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1D4-3328-44E7-B254-A29ED342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B3E0-7EA6-45A0-9EB5-751E9F9B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D79F-211C-4FBC-909B-3F201D47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AD7-B67C-4E07-BAAE-BEF25BB2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CE67-EEBD-4A9C-A0FB-7CD94B9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285-81C0-4382-91A5-3813CBBB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178-3590-4F9F-A0A3-3A4B158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AAF9-596B-4C86-8B64-2EE1433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9B9-2A73-49DB-95F9-F1A3346C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72FD-4744-47AF-AAA6-7889CBC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0B93-D473-412B-9EC9-5E4AE6DA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FFD6-6170-4A17-AFFE-53CC0223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54DE-61D3-4092-A75A-825C55EF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3D17-47C2-4C54-B621-2F585AC0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796-6620-4BCC-9F08-180ACBED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A60-579D-4F38-B243-56C04F3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1A3-622B-48D3-BBAF-2D40F77E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21E-59A9-497D-A907-635B3F6E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8BF-9B10-4AC9-8E2C-EEBD59D5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4F1-228F-4F3D-8651-F8D476E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8CB-E6ED-4BBD-B5B2-EDDD387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13AE-8CA9-4582-A410-65F94A8A974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218-4591-45D9-A3B6-F9CAF97A993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By: Shyheeda Washingt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Dr. Scearce 7th period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arrington"/>
              </a:rPr>
              <a:t>Global warming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is the increase in the average temperature of the Earth's near-surface air and oceans since the mid-twentieth century and its projected continua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Since 1979, land temperatures have increased about twice as fast as ocean temperatures (0.25 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per decade against 0.13 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per decade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437920" y="1143000"/>
            <a:ext cx="6324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Global temperatures have increased by 0.75 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 (1.35 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) relative to the period 1860-1900, according to the instrumental temperature record.     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The urban heat island effect is estimated to account for about 0.02 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 of warming since 1900.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9:18Z</dcterms:created>
  <dc:creator>PA Department of Education</dc:creator>
  <dc:description/>
  <dc:language>en-US</dc:language>
  <cp:lastModifiedBy>PA Department of Education</cp:lastModifiedBy>
  <dcterms:modified xsi:type="dcterms:W3CDTF">2009-05-22T17:44:04Z</dcterms:modified>
  <cp:revision>6</cp:revision>
  <dc:subject/>
  <dc:title>Global Warming</dc:title>
</cp:coreProperties>
</file>